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2DC-976F-45A7-B187-0531093D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9C9-F5BE-40F8-84CB-A4EE43F0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B80-49A4-49A9-BADA-7927A918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231-4238-4B73-84DA-735096FD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7AE-864C-4D1A-8ED0-13D3B1E4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4F6-2B5C-4863-A95E-EE3DCE8D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B52-4F88-4BF5-9BB0-844A2C43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C36-8C87-434A-9277-E134B13B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13B-BEA1-45CF-9306-F708A6FC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029-FC7E-4228-9196-8D283C95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7EF-E2C0-4628-8E6D-457F4D9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8CC-8644-44B7-BD0C-B1FDEEC7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C55C-75E1-4C9B-9F27-09F6E90F3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62560" y="0"/>
            <a:ext cx="3781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5334120" cy="89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عنا هو اللـه ، فاعلموا أي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أمم وانهزموا ، لأن الله معنا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سمعوا الى أقصى الأرض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يها الأقوياء انهزموا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أنكم وإن قويتم ، أيضا ستغلبون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..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أي مشورة عقدتم يبددها الرب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..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أي قول قلتموه لا يثبت فيكم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525780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نخاف خوفكم ولا نضطرب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نما نقدس الرب إلهنا ونحب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إذا توكلت عليه كان لي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اسة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سأتوكل عليه وأخلص ب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أنذا والأبناء الذين أعطانيهم اللـ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ها الشعب السالك في الظلمة ، أبصر نورا عظيما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876920" cy="76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ـحن السالكين في بقعة الـموت وظلاله يشرقُ علينا نورا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أنه قد ولد لنا ولدٌ ، وأعطي لنا إبنٌ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رت رئاسته على كتف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لا حــد لسلامه .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دعى اسـمه رسول الـمشورة العظيمة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3905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5638680" cy="85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شيراً عـجيبـاً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لهاً قوياً مسلَّطاً ، رئيس السلام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با الدهر الآتـي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المجـد للآب والإبـن والروح القدس ، لأن اللـه معنا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الآن وكل أوان والى دهر الداهرين ، آمين ، لأن اللـه معنا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نا هو اللـه ، فاعلموا أيها الأمم وانهزموا ، لأن اللـه معنا</a:t>
            </a: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.</a:t>
            </a:r>
            <a:r>
              <a:rPr b="0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7:42:55Z</dcterms:created>
  <dc:creator>SUZANNE.MD</dc:creator>
  <dc:description/>
  <dc:language>en-US</dc:language>
  <cp:lastModifiedBy>HANI SAFI</cp:lastModifiedBy>
  <dcterms:modified xsi:type="dcterms:W3CDTF">2003-03-14T12:30:32Z</dcterms:modified>
  <cp:revision>2</cp:revision>
  <dc:subject/>
  <dc:title>PowerPoint Presentation</dc:title>
</cp:coreProperties>
</file>